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DB4B-40BA-47E1-A6D7-D3B8916FB0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53E8-3B75-46AB-957B-D54CAAD30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a course code changes from grades 9 and 10  and into grade 11 and 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C2FB-6779-4A23-850C-E0F0A636C5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18C3-463D-4803-AD46-309543BCB4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indicate summer school course choices on the parental signage sheets with the options cho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not a summer school registration. This will occur in M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EFCD-17B0-492F-B340-4A7CB4662A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BA4D-EB20-40A9-847C-F3A4C83778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4676-28F7-4A00-9CE7-54C9C71283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49F1-C6D2-4D67-A9A3-EB929041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BE52-EBA2-43E2-9950-1C152C23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CC0-50D7-4A27-81D9-B0A44045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A6E2-22F9-4BE3-9E84-B18BC1A0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6B95-40EE-47E2-B0EF-34EAAEF3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F488-0AA0-4416-AA7A-D919F1CE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2749-22EE-450B-8B11-EEF66FD3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45E8-D6DE-41FD-83DC-B20D9463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A01E-B4FA-4870-8920-563404FA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6307-D869-4F6C-B0B9-240206F1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9557-AD79-4361-AA4F-96E319A0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0B11-FC35-4843-B377-E8BDAD6D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BE65-A4C1-4414-8786-D726C2F2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B387-1145-4A3D-9C57-6DD53FE2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9BA7-44E1-4A2A-A1B6-78211C54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8769-E6E8-41F7-9ECF-F47480E6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422F-D4F9-4D3F-B92B-4662AE78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BA16-93DC-4F34-9F41-7067F0B5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3D8-C320-4838-8C6D-1F292D01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C6E5-A246-4E33-B052-F2F0AF1E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582C-AFF8-4F07-9ECF-6AB35F5E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2178-9959-4336-B9CC-14BEC558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59C-9D66-4228-A69F-B42A1323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70B-0D78-41F5-A11A-8AFAF090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0FD3-9453-49D5-BE6E-1BB151B73C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AB68-D5CD-48DE-B93E-92F966432A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gradient.jpg"/>
          <p:cNvPicPr/>
          <p:nvPr/>
        </p:nvPicPr>
        <p:blipFill>
          <a:blip r:embed="rId1"/>
          <a:stretch/>
        </p:blipFill>
        <p:spPr>
          <a:xfrm>
            <a:off x="228600" y="0"/>
            <a:ext cx="9215280" cy="6985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rest2.gif"/>
          <p:cNvPicPr/>
          <p:nvPr/>
        </p:nvPicPr>
        <p:blipFill>
          <a:blip r:embed="rId2"/>
          <a:stretch/>
        </p:blipFill>
        <p:spPr>
          <a:xfrm>
            <a:off x="3846600" y="2031840"/>
            <a:ext cx="2028600" cy="2127240"/>
          </a:xfrm>
          <a:prstGeom prst="rect">
            <a:avLst/>
          </a:prstGeom>
          <a:ln w="0">
            <a:noFill/>
          </a:ln>
        </p:spPr>
      </p:pic>
      <p:pic>
        <p:nvPicPr>
          <p:cNvPr id="165" name="TextBox 8" descr=""/>
          <p:cNvPicPr/>
          <p:nvPr/>
        </p:nvPicPr>
        <p:blipFill>
          <a:blip r:embed="rId3"/>
          <a:stretch/>
        </p:blipFill>
        <p:spPr>
          <a:xfrm>
            <a:off x="658800" y="42840"/>
            <a:ext cx="8021520" cy="173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IBLogo.gif"/>
          <p:cNvPicPr/>
          <p:nvPr/>
        </p:nvPicPr>
        <p:blipFill>
          <a:blip r:embed="rId4"/>
          <a:stretch/>
        </p:blipFill>
        <p:spPr>
          <a:xfrm>
            <a:off x="7678800" y="5659560"/>
            <a:ext cx="1289160" cy="1265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447920" y="457200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4724280"/>
            <a:ext cx="526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urse Selection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017-2018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B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Arial"/>
              </a:rPr>
              <a:t>Levels - Grade 10 </a:t>
            </a:r>
            <a:r>
              <a:rPr b="0" lang="en-CA" sz="4400" spc="-1" strike="noStrike">
                <a:solidFill>
                  <a:srgbClr val="ccecff"/>
                </a:solidFill>
                <a:latin typeface="Wingdings"/>
                <a:ea typeface="Wingdings"/>
              </a:rPr>
              <a:t></a:t>
            </a:r>
            <a:r>
              <a:rPr b="0" lang="en-CA" sz="4400" spc="-1" strike="noStrike">
                <a:solidFill>
                  <a:srgbClr val="ccecff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371600"/>
          <a:ext cx="8076960" cy="4191120"/>
        </p:xfrm>
        <a:graphic>
          <a:graphicData uri="http://schemas.openxmlformats.org/drawingml/2006/table">
            <a:tbl>
              <a:tblPr/>
              <a:tblGrid>
                <a:gridCol w="4038840"/>
                <a:gridCol w="4038120"/>
              </a:tblGrid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 &amp; 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 &amp; 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ademic (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versity (U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ied    (P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versity /College (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pen       (O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lege (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pen       (O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rkplace (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896040" y="5791320"/>
            <a:ext cx="7413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IB</a:t>
            </a:r>
            <a:r>
              <a:rPr b="0" lang="en-CA" sz="2400" spc="-1" strike="noStrike">
                <a:solidFill>
                  <a:srgbClr val="ffffff"/>
                </a:solidFill>
                <a:latin typeface="Verdana"/>
              </a:rPr>
              <a:t> will add a E or J at the end of the code (ENG3U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pulsory Credits Required for OSS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610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do you need for you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ntario Diploma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roup 1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additional credit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English, French, International language 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Social Science (ex. HSP, HRT) 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CWS (ex. geo, history) OR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Guidance or Coop cred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roup 2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additional credit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Health and Physical Education, 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the Arts OR Business Studies OR French OR Coo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roup 3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additional credit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Science (Grade 11 or 12) 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Technological Education OR French O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Computer Studies (ICS) OR Coo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kplace? Complete an apprenticeship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llege? University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ider your strengths and interests when making a decis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duct some research to decide on option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COLLEG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Earn a diploma, applied degree, collaborative prog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requisite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SSD, ENG4C, and others depending on the specific program (ex. SBI3C, SCH4C, MAP4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plied degree programs and collaborative programs generally have university require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UNIVERSIT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arn an undergraduate/Bachelor’s Degre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BSc, BCom, B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requisite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SS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 4U or 4M courses (some schools maximum of two 4M cours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G4U and specific program require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elds of Stud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ivers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457200" y="1995480"/>
            <a:ext cx="822960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92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ww.ontariocolleges.c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ww.electronicinfo.c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urse Sel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contrac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or what you want to take next yea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earch your post-secondary requiremen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k and consider teachers’ advice (re: levels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 aware of prerequisite cours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e will try to place you in all of your requested courses, but if we cannot, we will use you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alternate choice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gradient.jpg"/>
          <p:cNvPicPr/>
          <p:nvPr/>
        </p:nvPicPr>
        <p:blipFill>
          <a:blip r:embed="rId1"/>
          <a:stretch/>
        </p:blipFill>
        <p:spPr>
          <a:xfrm>
            <a:off x="-9360" y="-6480"/>
            <a:ext cx="9153360" cy="1168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gradient.jpg"/>
          <p:cNvPicPr/>
          <p:nvPr/>
        </p:nvPicPr>
        <p:blipFill>
          <a:blip r:embed="rId2"/>
          <a:stretch/>
        </p:blipFill>
        <p:spPr>
          <a:xfrm>
            <a:off x="0" y="6359400"/>
            <a:ext cx="9153360" cy="517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paw.gif"/>
          <p:cNvPicPr/>
          <p:nvPr/>
        </p:nvPicPr>
        <p:blipFill>
          <a:blip r:embed="rId3"/>
          <a:stretch/>
        </p:blipFill>
        <p:spPr>
          <a:xfrm rot="20052600">
            <a:off x="309600" y="6321600"/>
            <a:ext cx="517320" cy="552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rest2.gif"/>
          <p:cNvPicPr/>
          <p:nvPr/>
        </p:nvPicPr>
        <p:blipFill>
          <a:blip r:embed="rId4"/>
          <a:stretch/>
        </p:blipFill>
        <p:spPr>
          <a:xfrm>
            <a:off x="260280" y="49320"/>
            <a:ext cx="1008000" cy="1057320"/>
          </a:xfrm>
          <a:prstGeom prst="rect">
            <a:avLst/>
          </a:prstGeom>
          <a:ln w="0">
            <a:noFill/>
          </a:ln>
        </p:spPr>
      </p:pic>
      <p:pic>
        <p:nvPicPr>
          <p:cNvPr id="173" name="TextBox 9" descr=""/>
          <p:cNvPicPr/>
          <p:nvPr/>
        </p:nvPicPr>
        <p:blipFill>
          <a:blip r:embed="rId5"/>
          <a:stretch/>
        </p:blipFill>
        <p:spPr>
          <a:xfrm>
            <a:off x="3029040" y="-219240"/>
            <a:ext cx="2950920" cy="11638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1"/>
          <p:cNvSpPr/>
          <p:nvPr/>
        </p:nvSpPr>
        <p:spPr>
          <a:xfrm>
            <a:off x="3320280" y="64594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Baoli SC Regular"/>
                <a:ea typeface="Baoli SC Regular"/>
              </a:rPr>
              <a:t>“</a:t>
            </a:r>
            <a:r>
              <a:rPr b="0" lang="en-US" sz="1000" spc="-1" strike="noStrike">
                <a:solidFill>
                  <a:srgbClr val="0066cc"/>
                </a:solidFill>
                <a:latin typeface="Baoli SC Regular"/>
                <a:ea typeface="Baoli SC Regular"/>
              </a:rPr>
              <a:t>WHAT WE HAVE BEGUN WE SHALL FINISH</a:t>
            </a:r>
            <a:r>
              <a:rPr b="0" lang="en-US" sz="1200" spc="-1" strike="noStrike">
                <a:solidFill>
                  <a:srgbClr val="0066cc"/>
                </a:solidFill>
                <a:latin typeface="Baoli SC Regular"/>
                <a:ea typeface="Baoli SC Regular"/>
              </a:rPr>
              <a:t>”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3547080" y="911160"/>
            <a:ext cx="21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Baoli SC Regular"/>
                <a:ea typeface="Baoli SC Regular"/>
              </a:rPr>
              <a:t>“</a:t>
            </a:r>
            <a:r>
              <a:rPr b="0" lang="en-US" sz="1000" spc="-1" strike="noStrike">
                <a:solidFill>
                  <a:srgbClr val="0066cc"/>
                </a:solidFill>
                <a:latin typeface="Baoli SC Regular"/>
                <a:ea typeface="Baoli SC Regular"/>
              </a:rPr>
              <a:t>QUAD INCEPIMUS CONFIEMUS”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15" descr="paw.gif"/>
          <p:cNvPicPr/>
          <p:nvPr/>
        </p:nvPicPr>
        <p:blipFill>
          <a:blip r:embed="rId6"/>
          <a:stretch/>
        </p:blipFill>
        <p:spPr>
          <a:xfrm rot="20052600">
            <a:off x="8277120" y="6321240"/>
            <a:ext cx="517680" cy="552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IBLogo.gif"/>
          <p:cNvPicPr/>
          <p:nvPr/>
        </p:nvPicPr>
        <p:blipFill>
          <a:blip r:embed="rId7"/>
          <a:stretch/>
        </p:blipFill>
        <p:spPr>
          <a:xfrm>
            <a:off x="7977240" y="104760"/>
            <a:ext cx="990720" cy="97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8"/>
          <a:stretch/>
        </p:blipFill>
        <p:spPr>
          <a:xfrm>
            <a:off x="1533600" y="1268280"/>
            <a:ext cx="60372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B Requir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must take 6 IB cour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1: Language and Liter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2: Language Acquis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3: Individuals and Socie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4: Sci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5: Mathemat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6: Arts or Ele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minimum of three at the HL (may be up to 4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D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You must take the Theory of Knowledge course (HZT4UE) (Grade 11-IB1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must complete C.A.S. requirement (Creative/Active/Service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must complete an Extended Essay and TOK pap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L or S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y programs are taught at the Higher Level (H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am can be written at the Standard Level (SL) – Maximum 2 SL exams in IB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cision on level is finalized in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ctober of IB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hen you register for exa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oup 1: Language and Literat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28600" y="2286000"/>
          <a:ext cx="8762760" cy="3200400"/>
        </p:xfrm>
        <a:graphic>
          <a:graphicData uri="http://schemas.openxmlformats.org/drawingml/2006/table">
            <a:tbl>
              <a:tblPr/>
              <a:tblGrid>
                <a:gridCol w="1752120"/>
                <a:gridCol w="1752480"/>
                <a:gridCol w="1753560"/>
                <a:gridCol w="1752480"/>
                <a:gridCol w="1752120"/>
              </a:tblGrid>
              <a:tr h="1066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lish A: Standard Level or Higher Leve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1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2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3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4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 2: Language Acquis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2280" y="1447920"/>
          <a:ext cx="8458200" cy="1312920"/>
        </p:xfrm>
        <a:graphic>
          <a:graphicData uri="http://schemas.openxmlformats.org/drawingml/2006/table">
            <a:tbl>
              <a:tblPr/>
              <a:tblGrid>
                <a:gridCol w="1690920"/>
                <a:gridCol w="1357200"/>
                <a:gridCol w="1447920"/>
                <a:gridCol w="1676160"/>
                <a:gridCol w="22860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anish B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B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B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C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C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DU   (must be SL exam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DU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or HL exam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52280" y="4876920"/>
          <a:ext cx="8534520" cy="177624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699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ench A:  Standard Level or Higher Level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*Students will be given the opportunity to write French B H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1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2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3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4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52280" y="3048120"/>
          <a:ext cx="8534520" cy="140652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03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ench B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1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2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3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4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Group 3: Individuals and Societi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2280" y="990720"/>
          <a:ext cx="8458200" cy="294480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ography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C1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F3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W4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or 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C1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F3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W4U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dents can move the grade 11 and 12 course into grades 10 and 11.  IF the student chooses this option, the exam will be written in grade 11 and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be a SL exa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52280" y="4267080"/>
          <a:ext cx="8534520" cy="144792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414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story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/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C2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N4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Y4U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or HL exa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22860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Group 3: Individuals and Societi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04920" y="1143000"/>
          <a:ext cx="8534160" cy="1919160"/>
        </p:xfrm>
        <a:graphic>
          <a:graphicData uri="http://schemas.openxmlformats.org/drawingml/2006/table">
            <a:tbl>
              <a:tblPr/>
              <a:tblGrid>
                <a:gridCol w="1706400"/>
                <a:gridCol w="1708200"/>
                <a:gridCol w="1704960"/>
                <a:gridCol w="1708200"/>
                <a:gridCol w="1706400"/>
              </a:tblGrid>
              <a:tr h="633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tion Technology in a Global Society (ITGS):  Standard Level ON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mmende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TIJ1O or TGJ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2O or ICS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3M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oup 4: Scienc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1523880"/>
          <a:ext cx="8458200" cy="159840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4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iology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E/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E/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3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4UE (SL or HL exa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52280" y="5105520"/>
          <a:ext cx="8534520" cy="159228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ysics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E/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E/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H3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H4UE (SL or HL exa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52280" y="3352680"/>
          <a:ext cx="8534160" cy="152424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7840"/>
                <a:gridCol w="1706760"/>
                <a:gridCol w="1706400"/>
              </a:tblGrid>
              <a:tr h="495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mistry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E/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E/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3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4U1/2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or HL exa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Group 4: Scienc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04920" y="1143000"/>
          <a:ext cx="8534160" cy="1919160"/>
        </p:xfrm>
        <a:graphic>
          <a:graphicData uri="http://schemas.openxmlformats.org/drawingml/2006/table">
            <a:tbl>
              <a:tblPr/>
              <a:tblGrid>
                <a:gridCol w="1706400"/>
                <a:gridCol w="1708200"/>
                <a:gridCol w="1704960"/>
                <a:gridCol w="1708200"/>
                <a:gridCol w="17064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rts and Exercise Science:  Standard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E/J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 grade 11 Science (preferably Biolog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SK4U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roup 5: Mathematic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52280" y="990720"/>
          <a:ext cx="8458200" cy="169056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05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Studies:  Standard Lev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 or MPM1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 or MPM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R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dents may take MDM4U, *MHF4U, MCV4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*co/pre-req to MC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152280" y="4943520"/>
          <a:ext cx="8534520" cy="16095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ematics: 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HF4U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V4U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152280" y="3048120"/>
          <a:ext cx="8534520" cy="171432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3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ematics:  Standard Lev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HF4U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V4U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lephant in the Room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“To IB or Not To IB…”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ider all avenues available for you to find succes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nd the best fit for your academic and personal nee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eak openly with your parents and Guidance about your concer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3962520" y="5334120"/>
            <a:ext cx="2301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095880" y="4800600"/>
            <a:ext cx="24685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277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roup 6: Arts/Electiv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52280" y="1600200"/>
          <a:ext cx="8458200" cy="154944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265400"/>
                <a:gridCol w="2119320"/>
                <a:gridCol w="169056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ic:  Standard Lev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1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2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*AMU3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3ME and AMR3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*AMU4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4ME and AMR4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52280" y="4943520"/>
          <a:ext cx="8534520" cy="159228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ual Arts: 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1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3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4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WM4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HL exa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152280" y="3352680"/>
          <a:ext cx="8534520" cy="140976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5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ual Arts:  Standard Lev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1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3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4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 6: Arts/Elect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04920" y="1143000"/>
          <a:ext cx="8534160" cy="1609560"/>
        </p:xfrm>
        <a:graphic>
          <a:graphicData uri="http://schemas.openxmlformats.org/drawingml/2006/table">
            <a:tbl>
              <a:tblPr/>
              <a:tblGrid>
                <a:gridCol w="1706400"/>
                <a:gridCol w="1708200"/>
                <a:gridCol w="1704960"/>
                <a:gridCol w="1708200"/>
                <a:gridCol w="17064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lm:  Standard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mmend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J1O or TGJ1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2O or ICS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3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4M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632160" y="3308400"/>
            <a:ext cx="73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TE:  students may also select a second group 2 or 3 or 4 subje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substitute for a Group 6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operative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great opportunity for experiential learn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y out a job and see how it fee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periods every second day in the afternoon (COP 3PD*) – 2 cred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periods every afternoon (COP4PD*) – 4 cred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Under Guidance/Career Ed. in Career Cruis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SM – Arts and Cult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280" y="1676520"/>
            <a:ext cx="876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ludes a bundle of major and other requir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ertification and in-depth training in a chose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mployment sec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ken in grade 11 and grade 1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 pathways/levels avail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ccessful completion leads to a Red Seal on OSS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urse Selec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2209680"/>
            <a:ext cx="693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Verdana"/>
              </a:rPr>
              <a:t>Career Cruis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Verdana"/>
              </a:rPr>
              <a:t>(www.careercruising.com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Verdana"/>
              </a:rPr>
              <a:t>Follow link on www.colonelby.co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Your Option Sheet –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Career Cruising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09480" y="914400"/>
          <a:ext cx="7925040" cy="57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14400"/>
                    <a:ext cx="792504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Your Option Sheet –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Career Cruising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85800" y="990720"/>
          <a:ext cx="7696080" cy="56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7696080" cy="56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880" y="14479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inting after submitting is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essential to finaliz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urse selection proce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mmer School intention, Media Consent, Use of Technology agreement will also print and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must be signed by student and par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submitted along with course selection pag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ffffff"/>
                </a:solidFill>
                <a:uFillTx/>
                <a:latin typeface="Verdana"/>
              </a:rPr>
              <a:t>If an override is required </a:t>
            </a:r>
            <a:r>
              <a:rPr b="0" lang="en-CA" sz="2800" spc="-1" strike="noStrike">
                <a:solidFill>
                  <a:srgbClr val="ffffff"/>
                </a:solidFill>
                <a:latin typeface="Verdana"/>
              </a:rPr>
              <a:t>in order to submit, students must see Guidance Counsellor. This will be necessary for program changes and when online learning is select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Verdana"/>
              </a:rPr>
              <a:t>Please submit by </a:t>
            </a:r>
            <a:r>
              <a:rPr b="1" lang="en-CA" sz="2800" spc="-1" strike="noStrike" u="sng">
                <a:solidFill>
                  <a:srgbClr val="ffffff"/>
                </a:solidFill>
                <a:uFillTx/>
                <a:latin typeface="Verdana"/>
              </a:rPr>
              <a:t>February 24</a:t>
            </a:r>
            <a:r>
              <a:rPr b="1" lang="en-CA" sz="2800" spc="-1" strike="noStrike" u="sng" baseline="30000">
                <a:solidFill>
                  <a:srgbClr val="ffffff"/>
                </a:solidFill>
                <a:uFillTx/>
                <a:latin typeface="Verdana"/>
              </a:rPr>
              <a:t>th</a:t>
            </a:r>
            <a:r>
              <a:rPr b="1" lang="en-CA" sz="2800" spc="-1" strike="noStrike" u="sng">
                <a:solidFill>
                  <a:srgbClr val="ffffff"/>
                </a:solidFill>
                <a:uFillTx/>
                <a:latin typeface="Verdana"/>
              </a:rPr>
              <a:t>, 2017</a:t>
            </a:r>
            <a:r>
              <a:rPr b="1" lang="en-C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Verdana"/>
              </a:rPr>
              <a:t>to Subject teachers (in class where course presentation occurred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derstanding your Credit Counseling Summary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sonal In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unity Involv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tario Literacy T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st cour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urrent cour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duation criter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.colonelby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ease see IB course guide online at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ibcb.ca/ibcourseguide20142015.pdf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.colonelby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hool Course Guide (course descriptio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er Scho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pril/May registration completed online through Career Cruising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Reach Ahead and Make up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uly (3.5 weeks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ostly compulsory courses with some electiv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er Scho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Course Selection:  Note on your Course Selection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rint ou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our intention to take summer school.  This is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 official summer school registr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924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urse cha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flicts may occur. Choose alterna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iority is given to compulsory credits/ graduation requiremen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ider course choices carefull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nges are not always possi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e an appointment with guid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earch your opt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cuss recommended course levels with teach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ll out a course planning she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 mindful of balanc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will I achieve the strongest success BIG PICTUR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cuss options with paren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ointments can be booked online at www.colonelby.com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min--Guida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ill.badgery@ocdsb.ca  (A-F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rah.storey@ocdsb.ca  (G-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chel.nakashoji@ocdsb.ca (P-Z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200" spc="-1" strike="noStrike">
                <a:solidFill>
                  <a:srgbClr val="ffffff"/>
                </a:solidFill>
                <a:latin typeface="Verdana"/>
              </a:rPr>
              <a:t>Thank you.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Verdana"/>
              </a:rPr>
              <a:t>Slides shows and resources available at www.colonelby.co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Verdana"/>
              </a:rPr>
              <a:t>(Admin- Guidance- Course selectio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urse Planner She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6" name="Rectangle 43"/>
          <p:cNvGraphicFramePr/>
          <p:nvPr/>
        </p:nvGraphicFramePr>
        <p:xfrm>
          <a:off x="1058760" y="1600200"/>
          <a:ext cx="702468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Rectangle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1600200"/>
                    <a:ext cx="70246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Personal Information, Community Involvement, Ont. Literacy Test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87631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381880" cy="124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Past / Completed Cours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686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277560"/>
            <a:ext cx="8458200" cy="124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Current Cours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534520" cy="2625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33520" y="4876920"/>
            <a:ext cx="815328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610480" cy="147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ccecff"/>
                </a:solidFill>
                <a:latin typeface="Arial"/>
              </a:rPr>
              <a:t>Graduation Criteria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99172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o read a co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rst three letters are the subjec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G  = Englis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VI   = Visual A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BI    = Biolog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# Indicates y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= 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  = 1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 = 11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   4  = 1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. ENG3U  LWSDU  SCH4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0T14:22:03Z</dcterms:created>
  <dc:creator>C30185</dc:creator>
  <dc:description/>
  <dc:language>en-US</dc:language>
  <cp:lastModifiedBy>C32954</cp:lastModifiedBy>
  <dcterms:modified xsi:type="dcterms:W3CDTF">2017-02-09T19:53:24Z</dcterms:modified>
  <cp:revision>73</cp:revision>
  <dc:subject/>
  <dc:title>Option sheets 2014-2015</dc:title>
</cp:coreProperties>
</file>